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B86-6B56-4256-9C22-2165DAAC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328-979C-4FF4-AA82-BB7A8EF8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0A9-8BEC-442C-AFDC-D2427807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7B3-B941-498E-A5F6-D3D19431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E177-1D7C-47DD-9D33-4FF41B29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913C-9AF6-45F0-9D75-8A8528E4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BF4A-F4B4-418D-9CEC-CEF21C72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ABCC-0F7A-45B8-B012-657EA3C0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954C-C7F2-4EB5-9E65-F21A87E7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EF4B-F97A-4FDA-95F1-8292C33D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83D4-1FF5-4BC3-986F-F0B86190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CD1-E836-45B0-A4D6-3D0CB87D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AEC1-E477-471C-BEE3-E4370D8B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4BCA-D3B6-412A-A879-3F4E4FA4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D16F-0A42-4B91-B75D-298CF6F9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C888-22EF-4790-AE2A-77A7D5FB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6D44-A36A-4FE9-A35E-4C2D83BA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01594-29CE-4897-B106-6F775D96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F2BCC-2794-4463-A342-C976D70C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BF004-5D42-429D-969B-AB5F8C7C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9EAC4-D867-453E-B1F4-8248AAFF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A7B84-F587-4759-B3F8-05A62A90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BF2-13C7-468C-AF33-07D4CEA4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2BEE2-FF11-485C-B0FA-5D8E9E36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09204-9FCF-403B-8751-5B7C994D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CC4A5-DA8F-478A-AE0B-968686A8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DDB3B-C07F-4F21-AD35-5EBAD9FB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B9FB5-4799-4E7D-9B3D-A3733650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C3DEA-D44D-4423-A5A1-9AD7773E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0141A-9459-49D4-AB16-068516C8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6ACA1-C2E3-43A0-90E2-4AC39C58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936C3-44E5-4349-8E63-01EE0D97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5D865-48B6-4B72-9B13-6AC0834C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E3C-66DE-47A5-83A7-51D2C6C1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6E826-AA1E-4D61-A868-0DE95EE8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7FB17-94F5-4CD5-B725-6B291962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DE202-5445-4889-A4A1-7B955E29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6E8E3-4B34-4E39-AC86-34DC1E78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EDF65-CC27-4010-9E39-8BD6E2E5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C83AD-B4A0-44AC-9CF3-99D704B0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142AB-A1EA-4F2E-8A33-CDDFBAD9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C54B1-A2B7-48E8-85A5-2912A3AC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B5D8D-C370-42AD-95D0-C626A47A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07175-E53E-495C-9C38-5DBB6B61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1B4-5512-4BFA-A624-26A0C340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FA143-864B-4106-B6C9-4AF9BBC3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AE06B-C955-44C3-B0CA-B066E7FB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8B9A4-005A-43FD-9C7E-F6C70644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748AD-7CF1-4493-B491-F262B67D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0ACD5-E79D-4705-837B-2A43AFAC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D67FF-F53D-4DDF-B781-3459FF96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B8170-7CAF-4208-9F5A-6ACAE09B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93D20-AE85-4F87-BAD1-6B8B9943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C7EE5-BF73-456D-B683-0A142B8A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D8F4E-93F4-4554-A1CD-E0648E1D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1E2-995C-493A-BBDE-C27056D7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808DB-F8C0-464C-B45D-B8B7B7AA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61BC5-5704-480A-86E4-602C81CE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92A61-C809-46AE-9204-F42F5223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215EA-F378-482B-A706-391815BC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6A0C6-FDE2-4CD6-9B46-263D467E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471C7-508D-49DC-A1F7-3DF2685F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2EC95-FB74-438F-B142-9E7BEAE6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4F17A-2262-4446-A469-C89C6CEB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CAAC0-FE9B-452B-A2A1-D87E050A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7FFC5-7059-4737-B379-D9BFB68A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AD0-0BFE-4196-BB94-0377555D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F7662-CA32-419C-AF91-E5D5096A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A1CCD-D9B5-4FB7-8B58-4CE63B11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74F42-C158-4A14-8C0F-8F3C316E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965FB-1AB1-406A-AA9A-983781C1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810BD-0AA3-48EC-A562-731B29F6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C01D6-EB8C-4CAF-9EA1-B185485F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28FD4-9A24-4194-A9CF-D4C1D17D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88C29-C4C7-474F-9371-7AEB0FF9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81001-373C-4443-BD9D-A359AE2A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E1A68-7505-442D-AD56-A3857404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ADB-9035-4813-941F-BD53EDA2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D0B4E-B09D-4412-813E-A27AAC64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1B17C-02D8-4543-9DAF-01F8EBCB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D524E-7215-4BDB-966A-1AFB6E7E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40E0D-AF06-4514-A08A-6C888FDB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3E715-F0C4-477C-89B6-918226FB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F9D65-132B-4457-9FD5-3F0F29EA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038D4-CE3C-4582-9C15-2E4559F3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52FB2-8DDE-4696-B71C-3CCD3A76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A5C83-194B-4E75-88CB-03CEA4A2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8D504-6856-4D09-A17A-9665A4CC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ACB-8922-4483-B25B-F4A3B31B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89DDA-9720-4A98-B6BD-4CD0CD90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0D7FD-CF34-4C8E-92DF-0A94C384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8F1FF-9192-4E46-9C60-B737BCA1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CB726-6828-4B5B-956B-9B872CB4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11B16-7ABC-469C-BCF4-4625EEBC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27468-4B0A-4626-8AE9-2B1A764C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63578-60EB-4E90-9389-4D53D9E0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7E11-5B37-4DE7-AFC0-97A2F7DB2DF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AD22-B3BC-41A0-9A1D-F121639C4CC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E4A0-4DDB-453E-98E9-9B04C038844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C3C6-C46E-4277-892C-E209A4AE2B6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C08F-8E02-4B69-BFB7-F5CF3A337E3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3570-A7BB-4CAD-BC8F-352825B9E2F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DDB3-1140-4A4F-B551-D2D38C8DE2C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3DD2-F843-4F65-8A5F-758E6E18ECC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it for Vicki to approve you as a member of our class wiki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5" name="Picture 5" descr="Waitfor vicki.png"/>
          <p:cNvPicPr/>
          <p:nvPr/>
        </p:nvPicPr>
        <p:blipFill>
          <a:blip r:embed="rId1"/>
          <a:stretch/>
        </p:blipFill>
        <p:spPr>
          <a:xfrm>
            <a:off x="1295280" y="251460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to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ikispaces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wikispaces home.jpg"/>
          <p:cNvPicPr/>
          <p:nvPr/>
        </p:nvPicPr>
        <p:blipFill>
          <a:blip r:embed="rId3"/>
          <a:stretch/>
        </p:blipFill>
        <p:spPr>
          <a:xfrm>
            <a:off x="1066680" y="2057400"/>
            <a:ext cx="68389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Sign 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wikispaces home.jpg"/>
          <p:cNvPicPr/>
          <p:nvPr/>
        </p:nvPicPr>
        <p:blipFill>
          <a:blip r:embed="rId2"/>
          <a:stretch/>
        </p:blipFill>
        <p:spPr>
          <a:xfrm>
            <a:off x="1143000" y="2133720"/>
            <a:ext cx="6838920" cy="3971880"/>
          </a:xfrm>
          <a:prstGeom prst="rect">
            <a:avLst/>
          </a:prstGeom>
          <a:ln w="0">
            <a:noFill/>
          </a:ln>
        </p:spPr>
      </p:pic>
      <p:cxnSp>
        <p:nvCxnSpPr>
          <p:cNvPr id="378" name="Straight Arrow Connector 16"/>
          <p:cNvCxnSpPr/>
          <p:nvPr/>
        </p:nvCxnSpPr>
        <p:spPr>
          <a:xfrm flipV="1">
            <a:off x="5638680" y="3352320"/>
            <a:ext cx="991440" cy="153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make new acco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1" name="Picture 3" descr="Wikisign in.png"/>
          <p:cNvPicPr/>
          <p:nvPr/>
        </p:nvPicPr>
        <p:blipFill>
          <a:blip r:embed="rId1"/>
          <a:stretch/>
        </p:blipFill>
        <p:spPr>
          <a:xfrm>
            <a:off x="914400" y="2209680"/>
            <a:ext cx="7313760" cy="4229280"/>
          </a:xfrm>
          <a:prstGeom prst="rect">
            <a:avLst/>
          </a:prstGeom>
          <a:ln w="0">
            <a:noFill/>
          </a:ln>
        </p:spPr>
      </p:pic>
      <p:cxnSp>
        <p:nvCxnSpPr>
          <p:cNvPr id="382" name="Straight Arrow Connector 5"/>
          <p:cNvCxnSpPr/>
          <p:nvPr/>
        </p:nvCxnSpPr>
        <p:spPr>
          <a:xfrm flipH="1">
            <a:off x="4342680" y="3808800"/>
            <a:ext cx="1524600" cy="3056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ll in username, password, emai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no to make a wiki. Click jo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Joinwiki.png"/>
          <p:cNvPicPr/>
          <p:nvPr/>
        </p:nvPicPr>
        <p:blipFill>
          <a:blip r:embed="rId2"/>
          <a:stretch/>
        </p:blipFill>
        <p:spPr>
          <a:xfrm>
            <a:off x="1219320" y="2819520"/>
            <a:ext cx="6684840" cy="3114720"/>
          </a:xfrm>
          <a:prstGeom prst="rect">
            <a:avLst/>
          </a:prstGeom>
          <a:ln w="0">
            <a:noFill/>
          </a:ln>
        </p:spPr>
      </p:pic>
      <p:cxnSp>
        <p:nvCxnSpPr>
          <p:cNvPr id="386" name="Straight Arrow Connector 6"/>
          <p:cNvCxnSpPr/>
          <p:nvPr/>
        </p:nvCxnSpPr>
        <p:spPr>
          <a:xfrm flipH="1">
            <a:off x="4343040" y="2970720"/>
            <a:ext cx="991440" cy="686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your username at 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5943600" cy="4260600"/>
          </a:xfrm>
          <a:prstGeom prst="rect">
            <a:avLst/>
          </a:prstGeom>
          <a:ln w="0">
            <a:noFill/>
          </a:ln>
        </p:spPr>
      </p:pic>
      <p:cxnSp>
        <p:nvCxnSpPr>
          <p:cNvPr id="390" name="Straight Arrow Connector 5"/>
          <p:cNvCxnSpPr/>
          <p:nvPr/>
        </p:nvCxnSpPr>
        <p:spPr>
          <a:xfrm>
            <a:off x="1523520" y="1981080"/>
            <a:ext cx="2667960" cy="1905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oose your class as a favorite wik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5943600" cy="4110120"/>
          </a:xfrm>
          <a:prstGeom prst="rect">
            <a:avLst/>
          </a:prstGeom>
          <a:ln w="0">
            <a:noFill/>
          </a:ln>
        </p:spPr>
      </p:pic>
      <p:cxnSp>
        <p:nvCxnSpPr>
          <p:cNvPr id="394" name="Straight Arrow Connector 5"/>
          <p:cNvCxnSpPr/>
          <p:nvPr/>
        </p:nvCxnSpPr>
        <p:spPr>
          <a:xfrm flipH="1">
            <a:off x="4343040" y="2057040"/>
            <a:ext cx="1753200" cy="19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on your class wiki na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5943600" cy="3504960"/>
          </a:xfrm>
          <a:prstGeom prst="rect">
            <a:avLst/>
          </a:prstGeom>
          <a:ln w="0">
            <a:noFill/>
          </a:ln>
        </p:spPr>
      </p:pic>
      <p:cxnSp>
        <p:nvCxnSpPr>
          <p:cNvPr id="398" name="Straight Arrow Connector 5"/>
          <p:cNvCxnSpPr/>
          <p:nvPr/>
        </p:nvCxnSpPr>
        <p:spPr>
          <a:xfrm flipH="1">
            <a:off x="2666160" y="1980000"/>
            <a:ext cx="1677240" cy="839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Join This Wiki to become a memb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memberwiki.png"/>
          <p:cNvPicPr/>
          <p:nvPr/>
        </p:nvPicPr>
        <p:blipFill>
          <a:blip r:embed="rId2"/>
          <a:stretch/>
        </p:blipFill>
        <p:spPr>
          <a:xfrm>
            <a:off x="914400" y="2514600"/>
            <a:ext cx="7313760" cy="3124080"/>
          </a:xfrm>
          <a:prstGeom prst="rect">
            <a:avLst/>
          </a:prstGeom>
          <a:ln w="0">
            <a:noFill/>
          </a:ln>
        </p:spPr>
      </p:pic>
      <p:cxnSp>
        <p:nvCxnSpPr>
          <p:cNvPr id="402" name="Straight Arrow Connector 8"/>
          <p:cNvCxnSpPr/>
          <p:nvPr/>
        </p:nvCxnSpPr>
        <p:spPr>
          <a:xfrm flipH="1">
            <a:off x="2437920" y="2208600"/>
            <a:ext cx="1524960" cy="1143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8:46:04Z</dcterms:created>
  <dc:creator> </dc:creator>
  <dc:description/>
  <dc:language>en-US</dc:language>
  <cp:lastModifiedBy> </cp:lastModifiedBy>
  <dcterms:modified xsi:type="dcterms:W3CDTF">2011-01-23T01:31:08Z</dcterms:modified>
  <cp:revision>4</cp:revision>
  <dc:subject/>
  <dc:title>Wikispaces Accounts</dc:title>
</cp:coreProperties>
</file>